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74B8-F893-45FD-9069-86B820055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51C8-72EA-4F46-B755-63BA581D8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DB3F-FA15-4820-A621-AD7F3693B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0460-BC83-4EEB-B42D-5AFD70B53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E8BC-EA30-4CAE-A1AC-84CCF5A40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3A04-743A-40EB-8A45-15C678E7F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EB24-7DF0-496A-BBE6-9C87B7E21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C280-6B57-4508-9125-E7410AFC7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6655-F84D-4D55-AB66-D4374B137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2E9B-0A85-4555-B37F-AE120762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2B3E-7F46-4A3D-BDC3-EE40CF4B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2E3B-6691-4528-8884-C4CF7C22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BD444-04E5-44F6-BB3C-51F972C45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he Great Ball Game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Group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74480" indent="-4744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boat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cold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road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blow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8. snow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9. hold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0. most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1. to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403848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5. gold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6. old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7. load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038480" y="-360"/>
            <a:ext cx="510552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2. do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3. goal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4. rainbow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he Great Ball Game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Group 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old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cold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gold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road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5. load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6. do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he Great Ball Game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Group 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ainb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owbo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ro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343040" y="1599840"/>
            <a:ext cx="480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0. goalpos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1. croake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2. bellowe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3. roas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0"/>
            <a:ext cx="44956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. toast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6. scarecrow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7. oatmea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8. float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9. shad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495680" y="0"/>
            <a:ext cx="46483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4. fungu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5. stronges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10:54:43Z</dcterms:created>
  <dc:creator>Kathryn.Cobb</dc:creator>
  <dc:description/>
  <dc:language>en-US</dc:language>
  <cp:lastModifiedBy>Kathryn.Cobb</cp:lastModifiedBy>
  <dcterms:modified xsi:type="dcterms:W3CDTF">2008-02-03T23:52:58Z</dcterms:modified>
  <cp:revision>8</cp:revision>
  <dc:subject/>
  <dc:title>The Art Lesson Group A</dc:title>
</cp:coreProperties>
</file>